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BFD-4AE1-4971-8064-90418B60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2FF-A368-4621-B6BE-800B9612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A4B-F58B-4A9B-881F-A26F8519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FC3-4621-4A1C-8421-4528724D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CDC37-BF37-4A61-BD60-850A8F76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F2021-3059-47E2-B275-02256341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14E5-4316-4570-8587-3372EFA3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1D35D-7586-42D3-9661-A4F343E7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91FA-B8E9-4AF7-8263-192D18D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FDDB8-145A-42F0-8F80-938100A7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50A1A-1280-4B19-AEE2-9D82C92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048-3302-42D3-B535-43C3C9AF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4FB7-CE0F-4D07-A091-D7D495B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83F07-F4F8-48E0-B889-2A11266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6C93B-E7FD-4928-A9D6-AA61F94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7320E-C576-4CDD-8F87-95B8D01F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18B76-D4B7-4581-84E1-B576C6B2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66E-8B02-4DCE-A422-A67298C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8A2-C09B-4D77-90D7-CAAD8B9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BAF-829F-474F-BA35-E9E68FDB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241-E1BD-47B3-81F7-83CFA121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3A-0A67-4B8E-A640-1A03073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0E9-7B7E-474A-95DD-570B0B5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0F2-2AAB-46CE-B0F3-2FB2696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10B1-789B-484D-8FE4-F2E0FA65F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C75-F2D4-40B3-A266-8B47A6F4A2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нег, твердые атмосферные осадки, состоящие из ледяных кристаллов – снежинок. Выпадает из облаков при температуре воздуха ниже 0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  <a:ea typeface="Arial"/>
              </a:rPr>
              <a:t>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  <a:ea typeface="Arial"/>
              </a:rPr>
              <a:t>С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2000" y="3573360"/>
            <a:ext cx="3181320" cy="2924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Следующее исследование помогает понять, почему у них именно шесть лучей.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   </a:t>
            </a:r>
            <a:br>
              <a:rPr sz="2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65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Начав с единственного </a:t>
            </a:r>
            <a:r>
              <a:rPr b="1" lang="en-US" sz="2000" spc="-1" strike="noStrike">
                <a:solidFill>
                  <a:srgbClr val="e3e3ff"/>
                </a:solidFill>
                <a:latin typeface="Arial"/>
              </a:rPr>
              <a:t>квадратика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, можно построить сложную «снежинку». Эта снежинка получается четырёхугольной.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5545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чнем с одного квадра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тем закрасим четыре квадратика которые касаются первого одной сторо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следующем шаге снова имеются только четыре квадратика, касающихся других одной сторо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четвертом шаге можно закрасить 12 квадратиков, которые касаются других одной сторо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ая по этому образцу, на каждом шаге можно закрашивать новые квадраты, которые подчиняются тому же прави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6000" y="1413000"/>
            <a:ext cx="171360" cy="17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81040" y="1799640"/>
            <a:ext cx="514080" cy="519840"/>
            <a:chOff x="7781040" y="1799640"/>
            <a:chExt cx="514080" cy="519840"/>
          </a:xfrm>
        </p:grpSpPr>
        <p:sp>
          <p:nvSpPr>
            <p:cNvPr id="148" name=""/>
            <p:cNvSpPr/>
            <p:nvPr/>
          </p:nvSpPr>
          <p:spPr>
            <a:xfrm>
              <a:off x="7952040" y="1973160"/>
              <a:ext cx="171360" cy="17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3400" y="1973160"/>
              <a:ext cx="171720" cy="173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52760" y="2147040"/>
              <a:ext cx="170280" cy="172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52760" y="1799640"/>
              <a:ext cx="171360" cy="173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81040" y="1974240"/>
              <a:ext cx="171720" cy="172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12880" y="2640600"/>
            <a:ext cx="857160" cy="856440"/>
            <a:chOff x="6212880" y="2640600"/>
            <a:chExt cx="857160" cy="856440"/>
          </a:xfrm>
        </p:grpSpPr>
        <p:sp>
          <p:nvSpPr>
            <p:cNvPr id="154" name=""/>
            <p:cNvSpPr/>
            <p:nvPr/>
          </p:nvSpPr>
          <p:spPr>
            <a:xfrm>
              <a:off x="6555240" y="2984040"/>
              <a:ext cx="1713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26960" y="2984040"/>
              <a:ext cx="171720" cy="171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56320" y="315576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6320" y="2812320"/>
              <a:ext cx="171360" cy="171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84600" y="2984760"/>
              <a:ext cx="1717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98680" y="2984760"/>
              <a:ext cx="17136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7040" y="3326400"/>
              <a:ext cx="1706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040" y="2640600"/>
              <a:ext cx="17064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12880" y="29854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76120" y="3559320"/>
            <a:ext cx="1200600" cy="1201680"/>
            <a:chOff x="7476120" y="3559320"/>
            <a:chExt cx="1200600" cy="1201680"/>
          </a:xfrm>
        </p:grpSpPr>
        <p:sp>
          <p:nvSpPr>
            <p:cNvPr id="164" name=""/>
            <p:cNvSpPr/>
            <p:nvPr/>
          </p:nvSpPr>
          <p:spPr>
            <a:xfrm>
              <a:off x="7990200" y="4073760"/>
              <a:ext cx="1713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61920" y="4073760"/>
              <a:ext cx="171720" cy="171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90920" y="42458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90920" y="3902040"/>
              <a:ext cx="171360" cy="171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19200" y="4074840"/>
              <a:ext cx="1717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33640" y="4074840"/>
              <a:ext cx="171360" cy="17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91640" y="4416480"/>
              <a:ext cx="1706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91640" y="3730320"/>
              <a:ext cx="170640" cy="17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47480" y="40755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34360" y="4246560"/>
              <a:ext cx="17064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62640" y="441828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05360" y="4075560"/>
              <a:ext cx="17136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34360" y="390204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62640" y="3730320"/>
              <a:ext cx="17136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91640" y="35593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0200" y="4589280"/>
              <a:ext cx="17136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47480" y="4247280"/>
              <a:ext cx="1724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18480" y="4418280"/>
              <a:ext cx="17136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18480" y="373104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76120" y="4075560"/>
              <a:ext cx="171360" cy="171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48560" y="390456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968800" y="4830480"/>
            <a:ext cx="1543680" cy="1544040"/>
            <a:chOff x="5968800" y="4830480"/>
            <a:chExt cx="1543680" cy="1544040"/>
          </a:xfrm>
        </p:grpSpPr>
        <p:sp>
          <p:nvSpPr>
            <p:cNvPr id="186" name=""/>
            <p:cNvSpPr/>
            <p:nvPr/>
          </p:nvSpPr>
          <p:spPr>
            <a:xfrm>
              <a:off x="6654600" y="5516640"/>
              <a:ext cx="1713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26320" y="5516640"/>
              <a:ext cx="171720" cy="171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5320" y="568836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55320" y="5344920"/>
              <a:ext cx="171360" cy="171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3600" y="5517360"/>
              <a:ext cx="1717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98040" y="5517360"/>
              <a:ext cx="17136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56040" y="5859000"/>
              <a:ext cx="1706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6040" y="5173200"/>
              <a:ext cx="17064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880" y="55180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8760" y="5689080"/>
              <a:ext cx="17064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27040" y="586080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9760" y="551808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98760" y="534492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7040" y="517320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56040" y="50022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54600" y="603144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1880" y="5689800"/>
              <a:ext cx="1724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2880" y="586080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82880" y="517392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0520" y="551808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2960" y="534708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41120" y="5515560"/>
              <a:ext cx="171360" cy="170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56040" y="483048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54600" y="620316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8800" y="551808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450"/>
                            </p:stCondLst>
                            <p:childTnLst>
                              <p:par>
                                <p:cTn id="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1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8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80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250"/>
                            </p:stCondLst>
                            <p:childTnLst>
                              <p:par>
                                <p:cTn id="2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25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6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360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895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от как она выглядит после 15 шагов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68360" y="1377720"/>
            <a:ext cx="4970520" cy="4963680"/>
            <a:chOff x="2268360" y="1377720"/>
            <a:chExt cx="4970520" cy="4963680"/>
          </a:xfrm>
        </p:grpSpPr>
        <p:sp>
          <p:nvSpPr>
            <p:cNvPr id="213" name=""/>
            <p:cNvSpPr/>
            <p:nvPr/>
          </p:nvSpPr>
          <p:spPr>
            <a:xfrm>
              <a:off x="4667400" y="3773160"/>
              <a:ext cx="1713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39120" y="3773160"/>
              <a:ext cx="171720" cy="171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68480" y="394524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8480" y="3601800"/>
              <a:ext cx="171360" cy="171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6760" y="3774240"/>
              <a:ext cx="1717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10840" y="3774240"/>
              <a:ext cx="17136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9200" y="4115880"/>
              <a:ext cx="1706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9200" y="3430080"/>
              <a:ext cx="170640" cy="171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25040" y="37749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11560" y="3945960"/>
              <a:ext cx="17064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9840" y="411732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2560" y="377496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11560" y="360180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39840" y="343008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9200" y="32590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67400" y="428832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25040" y="3946680"/>
              <a:ext cx="1724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6040" y="411732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6040" y="343080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53680" y="3774960"/>
              <a:ext cx="171360" cy="171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26120" y="3603960"/>
              <a:ext cx="1713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53920" y="3772440"/>
              <a:ext cx="171360" cy="170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69200" y="308772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67400" y="446004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1960" y="377496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54640" y="394668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25640" y="37760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54640" y="36018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40920" y="44600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67400" y="46314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8200" y="446076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81960" y="394668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11320" y="37742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83400" y="360180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7400" y="291672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40920" y="308772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6760" y="30884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11560" y="44607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8480" y="480240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5040" y="446076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53920" y="41184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96280" y="377604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53920" y="34300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11560" y="308772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6680" y="27460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24320" y="308844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9600" y="37731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80160" y="411840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80160" y="343008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10840" y="42901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3280" y="41191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26360" y="41191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53920" y="42901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84720" y="446076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43080" y="48024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14080" y="46314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98800" y="394812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8720" y="377748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98800" y="360108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6360" y="34333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84720" y="343008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14080" y="325836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54640" y="325836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4720" y="30884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14080" y="29167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43080" y="27460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9200" y="257508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6040" y="27460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28640" y="29167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24320" y="32626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58360" y="308772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83400" y="325836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2600" y="343332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1320" y="34333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58360" y="411912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22520" y="42865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92440" y="480240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69200" y="497340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21800" y="46314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54400" y="446076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80160" y="42901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11320" y="41191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9600" y="394812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39600" y="360108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68600" y="377424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8640" y="3777480"/>
              <a:ext cx="1713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71720" y="514404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97240" y="377172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72440" y="2404440"/>
              <a:ext cx="171360" cy="170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3080" y="514476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2440" y="531576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8200" y="514476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38640" y="3949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10360" y="377172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39720" y="360108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97240" y="394920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6240" y="377172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97960" y="360108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44160" y="24044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73160" y="22334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2520" y="24044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14800" y="514476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30080" y="240444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3160" y="20628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14800" y="240444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95440" y="342900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53800" y="377424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95440" y="411984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19280" y="514404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73160" y="54864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39720" y="343332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39720" y="411984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83520" y="3771720"/>
              <a:ext cx="17172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5240" y="3771720"/>
              <a:ext cx="17028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38640" y="429084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11800" y="411984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68720" y="41198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8320" y="5144760"/>
              <a:ext cx="1688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17320" y="49741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19280" y="497412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49360" y="51440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19280" y="531576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45960" y="548640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97480" y="5486400"/>
              <a:ext cx="1688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69200" y="565740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83160" y="37710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53800" y="39492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25520" y="411984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95440" y="42908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69680" y="411984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8720" y="343332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38640" y="325836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15400" y="34290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6040" y="3600000"/>
              <a:ext cx="1688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5320" y="394524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46680" y="20628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1560" y="223344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8320" y="24044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7320" y="25750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69680" y="343080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94720" y="325836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8760" y="3429000"/>
              <a:ext cx="1688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56320" y="360000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17320" y="531576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19280" y="257508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1600" y="2404440"/>
              <a:ext cx="1681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32600" y="2233440"/>
              <a:ext cx="16956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96760" y="2062800"/>
              <a:ext cx="16992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75680" y="1891800"/>
              <a:ext cx="170640" cy="170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97960" y="3085920"/>
              <a:ext cx="171360" cy="17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0720" y="3769200"/>
              <a:ext cx="172080" cy="17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92920" y="4461480"/>
              <a:ext cx="17208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87000" y="240336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75680" y="1719360"/>
              <a:ext cx="171360" cy="17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58240" y="2403360"/>
              <a:ext cx="17244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38640" y="3085920"/>
              <a:ext cx="169920" cy="17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25880" y="3770280"/>
              <a:ext cx="17172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39720" y="446148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78000" y="5144760"/>
              <a:ext cx="171360" cy="17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58240" y="5144760"/>
              <a:ext cx="169560" cy="17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62720" y="5828400"/>
              <a:ext cx="171360" cy="171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78000" y="497340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79440" y="5317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30680" y="514656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59680" y="5317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3920" y="49734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62720" y="599976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34080" y="582912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5320" y="5828400"/>
              <a:ext cx="1688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8720" y="309168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15400" y="309168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38640" y="291492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96880" y="3769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25880" y="3598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27680" y="394920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15400" y="446220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8720" y="446220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8640" y="463320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7720" y="514404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06480" y="1719360"/>
              <a:ext cx="1688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847400" y="171936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72440" y="1548720"/>
              <a:ext cx="17028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95440" y="291672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69680" y="309168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3000" y="309168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13240" y="359820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41520" y="3769200"/>
              <a:ext cx="1688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10720" y="39452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4462200"/>
              <a:ext cx="1688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2920" y="463068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5360" y="446220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7720" y="2403360"/>
              <a:ext cx="16992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78000" y="223272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78000" y="257508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30680" y="240444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59680" y="2575080"/>
              <a:ext cx="17064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58240" y="2232720"/>
              <a:ext cx="169560" cy="17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09640" y="4115880"/>
              <a:ext cx="17172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51280" y="445752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90400" y="48042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0320" y="44622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5120" y="480168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35640" y="514656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75120" y="54864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6760" y="582912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53360" y="617076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97520" y="58284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2120" y="54864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01320" y="51465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52120" y="480168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86040" y="44622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45120" y="48042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96280" y="446220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67520" y="377100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27680" y="411984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40320" y="309168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56320" y="308844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97960" y="274428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3240" y="342756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68360" y="377100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75120" y="2062800"/>
              <a:ext cx="17172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24320" y="171936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7320" y="1719360"/>
              <a:ext cx="17244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6680" y="137772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35400" y="274608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2080" y="309168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23360" y="342756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96280" y="30916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59680" y="274608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01320" y="2404440"/>
              <a:ext cx="1713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1400" y="206208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73680" y="2746080"/>
              <a:ext cx="17316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5640" y="2404440"/>
              <a:ext cx="172080" cy="170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чнем с единственного треугольника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114720" y="3799800"/>
            <a:ext cx="2307960" cy="2294640"/>
            <a:chOff x="3114720" y="3799800"/>
            <a:chExt cx="2307960" cy="2294640"/>
          </a:xfrm>
        </p:grpSpPr>
        <p:sp>
          <p:nvSpPr>
            <p:cNvPr id="448" name=""/>
            <p:cNvSpPr/>
            <p:nvPr/>
          </p:nvSpPr>
          <p:spPr>
            <a:xfrm rot="5400000">
              <a:off x="4121280" y="4720320"/>
              <a:ext cx="577800" cy="510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8949600">
              <a:off x="4250880" y="4510440"/>
              <a:ext cx="578880" cy="5119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253000">
              <a:off x="4631400" y="4417920"/>
              <a:ext cx="577080" cy="5101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9052200">
              <a:off x="4250880" y="509832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3610440" y="4720320"/>
              <a:ext cx="578520" cy="5104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5400000">
              <a:off x="4631760" y="499572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400000">
              <a:off x="4121280" y="4142160"/>
              <a:ext cx="578160" cy="5104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3609360" y="4416120"/>
              <a:ext cx="578520" cy="511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5400000">
              <a:off x="3609000" y="499572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4120560" y="529956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8667600">
              <a:off x="4748760" y="4174200"/>
              <a:ext cx="578880" cy="51192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8667600">
              <a:off x="4250880" y="3920040"/>
              <a:ext cx="578880" cy="51192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95000">
              <a:off x="4748400" y="5185080"/>
              <a:ext cx="578880" cy="51192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95000">
              <a:off x="4246560" y="5476320"/>
              <a:ext cx="578880" cy="51120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515600">
              <a:off x="3196080" y="4912560"/>
              <a:ext cx="578880" cy="51120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73000">
              <a:off x="3196080" y="4331520"/>
              <a:ext cx="578880" cy="511200"/>
            </a:xfrm>
            <a:prstGeom prst="triangle">
              <a:avLst>
                <a:gd name="adj" fmla="val 5818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917400" y="1510920"/>
            <a:ext cx="1544760" cy="1736280"/>
            <a:chOff x="6917400" y="1510920"/>
            <a:chExt cx="1544760" cy="1736280"/>
          </a:xfrm>
        </p:grpSpPr>
        <p:sp>
          <p:nvSpPr>
            <p:cNvPr id="465" name=""/>
            <p:cNvSpPr/>
            <p:nvPr/>
          </p:nvSpPr>
          <p:spPr>
            <a:xfrm rot="5400000">
              <a:off x="7395840" y="2123280"/>
              <a:ext cx="578160" cy="510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8949600">
              <a:off x="7525080" y="1912680"/>
              <a:ext cx="578880" cy="5122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253000">
              <a:off x="7905960" y="1820520"/>
              <a:ext cx="577080" cy="5101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9052200">
              <a:off x="7525440" y="250092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6885000" y="2123640"/>
              <a:ext cx="578880" cy="5104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7906320" y="239868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7395840" y="1544760"/>
              <a:ext cx="578160" cy="5104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5400000">
              <a:off x="6883920" y="1819440"/>
              <a:ext cx="578880" cy="511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5400000">
              <a:off x="6883560" y="239868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00000">
              <a:off x="7395120" y="270216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823560" y="1727640"/>
            <a:ext cx="1275480" cy="1320120"/>
            <a:chOff x="3823560" y="1727640"/>
            <a:chExt cx="1275480" cy="1320120"/>
          </a:xfrm>
        </p:grpSpPr>
        <p:sp>
          <p:nvSpPr>
            <p:cNvPr id="476" name=""/>
            <p:cNvSpPr/>
            <p:nvPr/>
          </p:nvSpPr>
          <p:spPr>
            <a:xfrm rot="5400000">
              <a:off x="4300200" y="2050200"/>
              <a:ext cx="578160" cy="510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8949600">
              <a:off x="4429440" y="1839600"/>
              <a:ext cx="578880" cy="5122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9052200">
              <a:off x="4429800" y="2427840"/>
              <a:ext cx="578880" cy="51120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3789360" y="2050560"/>
              <a:ext cx="578880" cy="51048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668600" y="2016360"/>
            <a:ext cx="510480" cy="578160"/>
            <a:chOff x="1668600" y="2016360"/>
            <a:chExt cx="510480" cy="578160"/>
          </a:xfrm>
        </p:grpSpPr>
        <p:sp>
          <p:nvSpPr>
            <p:cNvPr id="481" name=""/>
            <p:cNvSpPr/>
            <p:nvPr/>
          </p:nvSpPr>
          <p:spPr>
            <a:xfrm rot="5400000">
              <a:off x="1634760" y="2050200"/>
              <a:ext cx="578160" cy="510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Или шестиугольника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397560" y="1546920"/>
            <a:ext cx="1798920" cy="1870200"/>
            <a:chOff x="6397560" y="1546920"/>
            <a:chExt cx="1798920" cy="1870200"/>
          </a:xfrm>
        </p:grpSpPr>
        <p:sp>
          <p:nvSpPr>
            <p:cNvPr id="484" name=""/>
            <p:cNvSpPr/>
            <p:nvPr/>
          </p:nvSpPr>
          <p:spPr>
            <a:xfrm rot="1909800">
              <a:off x="6499800" y="2701440"/>
              <a:ext cx="676800" cy="580680"/>
            </a:xfrm>
            <a:prstGeom prst="hexagon">
              <a:avLst>
                <a:gd name="adj" fmla="val 29138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909800">
              <a:off x="7417440" y="2215080"/>
              <a:ext cx="676800" cy="580680"/>
            </a:xfrm>
            <a:prstGeom prst="hexagon">
              <a:avLst>
                <a:gd name="adj" fmla="val 29138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909800">
              <a:off x="6816240" y="2215080"/>
              <a:ext cx="676080" cy="580680"/>
            </a:xfrm>
            <a:prstGeom prst="hexagon">
              <a:avLst>
                <a:gd name="adj" fmla="val 2910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909800">
              <a:off x="6548760" y="1681560"/>
              <a:ext cx="676800" cy="581400"/>
            </a:xfrm>
            <a:prstGeom prst="hexagon">
              <a:avLst>
                <a:gd name="adj" fmla="val 29102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168920" y="1936080"/>
            <a:ext cx="880920" cy="849960"/>
            <a:chOff x="1168920" y="1936080"/>
            <a:chExt cx="880920" cy="849960"/>
          </a:xfrm>
        </p:grpSpPr>
        <p:sp>
          <p:nvSpPr>
            <p:cNvPr id="489" name=""/>
            <p:cNvSpPr/>
            <p:nvPr/>
          </p:nvSpPr>
          <p:spPr>
            <a:xfrm rot="1909800">
              <a:off x="1271160" y="2070360"/>
              <a:ext cx="676080" cy="580680"/>
            </a:xfrm>
            <a:prstGeom prst="hexagon">
              <a:avLst>
                <a:gd name="adj" fmla="val 2910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026880" y="3696840"/>
            <a:ext cx="2894760" cy="2839680"/>
            <a:chOff x="3026880" y="3696840"/>
            <a:chExt cx="2894760" cy="2839680"/>
          </a:xfrm>
        </p:grpSpPr>
        <p:sp>
          <p:nvSpPr>
            <p:cNvPr id="491" name=""/>
            <p:cNvSpPr/>
            <p:nvPr/>
          </p:nvSpPr>
          <p:spPr>
            <a:xfrm rot="1909800">
              <a:off x="3650760" y="532620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909800">
              <a:off x="4567320" y="484020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909800">
              <a:off x="3966840" y="4840200"/>
              <a:ext cx="675360" cy="580680"/>
            </a:xfrm>
            <a:prstGeom prst="hexagon">
              <a:avLst>
                <a:gd name="adj" fmla="val 29076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09800">
              <a:off x="3699360" y="4306680"/>
              <a:ext cx="676440" cy="581400"/>
            </a:xfrm>
            <a:prstGeom prst="hexagon">
              <a:avLst>
                <a:gd name="adj" fmla="val 29087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909800">
              <a:off x="4014720" y="383148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909800">
              <a:off x="5143680" y="4840920"/>
              <a:ext cx="675720" cy="579600"/>
            </a:xfrm>
            <a:prstGeom prst="hexagon">
              <a:avLst>
                <a:gd name="adj" fmla="val 29146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909800">
              <a:off x="3339000" y="5819760"/>
              <a:ext cx="675720" cy="582120"/>
            </a:xfrm>
            <a:prstGeom prst="hexagon">
              <a:avLst>
                <a:gd name="adj" fmla="val 29020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909800">
              <a:off x="3129480" y="4306680"/>
              <a:ext cx="676440" cy="583920"/>
            </a:xfrm>
            <a:prstGeom prst="hexagon">
              <a:avLst>
                <a:gd name="adj" fmla="val 289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e3e3ff"/>
                </a:solidFill>
                <a:latin typeface="Arial"/>
              </a:rPr>
              <a:t>С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шестиугольниками</a:t>
            </a:r>
            <a:r>
              <a:rPr b="1" lang="en-US" sz="2900" spc="-1" strike="noStrike">
                <a:solidFill>
                  <a:srgbClr val="e3e3ff"/>
                </a:solidFill>
                <a:latin typeface="Arial"/>
              </a:rPr>
              <a:t> будет больше вариантов,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потому</a:t>
            </a:r>
            <a:r>
              <a:rPr b="1" lang="en-US" sz="2900" spc="-1" strike="noStrike">
                <a:solidFill>
                  <a:srgbClr val="e3e3ff"/>
                </a:solidFill>
                <a:latin typeface="Arial"/>
              </a:rPr>
              <a:t> что больше выбора: где </a:t>
            </a: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прикладывать</a:t>
            </a:r>
            <a:r>
              <a:rPr b="1" lang="en-US" sz="2900" spc="-1" strike="noStrike">
                <a:solidFill>
                  <a:srgbClr val="e3e3ff"/>
                </a:solidFill>
                <a:latin typeface="Arial"/>
              </a:rPr>
              <a:t> новые фигуры.</a:t>
            </a:r>
            <a:endParaRPr b="0" lang="en-US" sz="29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973240" y="3839760"/>
            <a:ext cx="2659680" cy="2860920"/>
            <a:chOff x="2973240" y="3839760"/>
            <a:chExt cx="2659680" cy="2860920"/>
          </a:xfrm>
        </p:grpSpPr>
        <p:sp>
          <p:nvSpPr>
            <p:cNvPr id="501" name=""/>
            <p:cNvSpPr/>
            <p:nvPr/>
          </p:nvSpPr>
          <p:spPr>
            <a:xfrm rot="1909800">
              <a:off x="3650760" y="546912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909800">
              <a:off x="4567320" y="498312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09800">
              <a:off x="3966840" y="4983120"/>
              <a:ext cx="675360" cy="580680"/>
            </a:xfrm>
            <a:prstGeom prst="hexagon">
              <a:avLst>
                <a:gd name="adj" fmla="val 29076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909800">
              <a:off x="3699360" y="4449600"/>
              <a:ext cx="676440" cy="581400"/>
            </a:xfrm>
            <a:prstGeom prst="hexagon">
              <a:avLst>
                <a:gd name="adj" fmla="val 29087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909800">
              <a:off x="4014720" y="3974400"/>
              <a:ext cx="676440" cy="580680"/>
            </a:xfrm>
            <a:prstGeom prst="hexagon">
              <a:avLst>
                <a:gd name="adj" fmla="val 2912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909800">
              <a:off x="4854960" y="4497840"/>
              <a:ext cx="675360" cy="579600"/>
            </a:xfrm>
            <a:prstGeom prst="hexagon">
              <a:avLst>
                <a:gd name="adj" fmla="val 29130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909800">
              <a:off x="4854600" y="5469120"/>
              <a:ext cx="675360" cy="582120"/>
            </a:xfrm>
            <a:prstGeom prst="hexagon">
              <a:avLst>
                <a:gd name="adj" fmla="val 2900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909800">
              <a:off x="3965760" y="5982120"/>
              <a:ext cx="676440" cy="583920"/>
            </a:xfrm>
            <a:prstGeom prst="hexagon">
              <a:avLst>
                <a:gd name="adj" fmla="val 289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909800">
              <a:off x="3075840" y="5466600"/>
              <a:ext cx="676440" cy="583200"/>
            </a:xfrm>
            <a:prstGeom prst="hexagon">
              <a:avLst>
                <a:gd name="adj" fmla="val 28997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909800">
              <a:off x="3129480" y="4449600"/>
              <a:ext cx="676440" cy="583920"/>
            </a:xfrm>
            <a:prstGeom prst="hexagon">
              <a:avLst>
                <a:gd name="adj" fmla="val 28961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181560" y="1907280"/>
            <a:ext cx="1798920" cy="1870200"/>
            <a:chOff x="6181560" y="1907280"/>
            <a:chExt cx="1798920" cy="1870200"/>
          </a:xfrm>
        </p:grpSpPr>
        <p:sp>
          <p:nvSpPr>
            <p:cNvPr id="512" name=""/>
            <p:cNvSpPr/>
            <p:nvPr/>
          </p:nvSpPr>
          <p:spPr>
            <a:xfrm rot="1909800">
              <a:off x="6283800" y="3061800"/>
              <a:ext cx="676800" cy="580680"/>
            </a:xfrm>
            <a:prstGeom prst="hexagon">
              <a:avLst>
                <a:gd name="adj" fmla="val 29138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09800">
              <a:off x="7201440" y="2575440"/>
              <a:ext cx="676800" cy="580680"/>
            </a:xfrm>
            <a:prstGeom prst="hexagon">
              <a:avLst>
                <a:gd name="adj" fmla="val 29138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909800">
              <a:off x="6600240" y="2575440"/>
              <a:ext cx="676080" cy="580680"/>
            </a:xfrm>
            <a:prstGeom prst="hexagon">
              <a:avLst>
                <a:gd name="adj" fmla="val 2910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909800">
              <a:off x="6332760" y="2041920"/>
              <a:ext cx="676800" cy="581400"/>
            </a:xfrm>
            <a:prstGeom prst="hexagon">
              <a:avLst>
                <a:gd name="adj" fmla="val 29102"/>
                <a:gd name="vf" fmla="val 11547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097640" y="2296800"/>
            <a:ext cx="880560" cy="849600"/>
            <a:chOff x="1097640" y="2296800"/>
            <a:chExt cx="880560" cy="849600"/>
          </a:xfrm>
        </p:grpSpPr>
        <p:sp>
          <p:nvSpPr>
            <p:cNvPr id="517" name=""/>
            <p:cNvSpPr/>
            <p:nvPr/>
          </p:nvSpPr>
          <p:spPr>
            <a:xfrm rot="1909800">
              <a:off x="1199880" y="2431080"/>
              <a:ext cx="675720" cy="580680"/>
            </a:xfrm>
            <a:prstGeom prst="hexagon">
              <a:avLst>
                <a:gd name="adj" fmla="val 29092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Сходство между математическими снежинками, построенными из треугольников,  и снежинками настоящими, видимо, связано с молекулярной структурой ледяных кристаллов. Вода, а значит и лёд, состоит из атомов водорода и кислорода.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Молекула льда содержит два атома водорода и один атом кислорода: Н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О.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гда эти молекулы выстраиваются в трёхмерном пространстве, тройные связи порождают шестиугольный узо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669040" y="1650240"/>
            <a:ext cx="3687480" cy="3403440"/>
            <a:chOff x="2669040" y="1650240"/>
            <a:chExt cx="3687480" cy="3403440"/>
          </a:xfrm>
        </p:grpSpPr>
        <p:sp>
          <p:nvSpPr>
            <p:cNvPr id="522" name=""/>
            <p:cNvSpPr/>
            <p:nvPr/>
          </p:nvSpPr>
          <p:spPr>
            <a:xfrm>
              <a:off x="4819680" y="1650240"/>
              <a:ext cx="1536840" cy="1485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69040" y="2883600"/>
              <a:ext cx="914760" cy="9136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469320" y="2615400"/>
              <a:ext cx="1350360" cy="405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583800" y="2883600"/>
              <a:ext cx="1447560" cy="442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33520" y="3021480"/>
              <a:ext cx="126720" cy="13460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52280" y="3135960"/>
              <a:ext cx="126720" cy="10922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98480" y="1877400"/>
              <a:ext cx="380880" cy="21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3200" y="3021480"/>
              <a:ext cx="318240" cy="16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33520" y="4367520"/>
              <a:ext cx="315720" cy="11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42480" y="4138920"/>
              <a:ext cx="914040" cy="914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14920" y="4314960"/>
              <a:ext cx="318240" cy="16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Декоративные снежинк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им ажурную бумажную салфетку или «снежинку». Такие снежинки - это не только новогоднее украшение. Это ещё и китайские фонарики, кружева салфетки, шаблоны для роспис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906560" y="3106800"/>
            <a:ext cx="1370160" cy="13698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5219640" y="3084480"/>
            <a:ext cx="2160720" cy="15318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2519280" cy="1792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2736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ота снежинок заключается в их симметричности. Заготовим квадрат, пентагон, гексагон и круг как заготовки наших будущих снежи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откая          дли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ь                  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драт      пентагон       гексагон         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октаг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36800" y="5241960"/>
            <a:ext cx="12844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120920" y="4079880"/>
            <a:ext cx="399960" cy="11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65360" y="3355920"/>
            <a:ext cx="105588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36480" y="3355920"/>
            <a:ext cx="102852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36840" y="4079880"/>
            <a:ext cx="399960" cy="11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65360" y="3355920"/>
            <a:ext cx="0" cy="18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6840" y="4079880"/>
            <a:ext cx="1886040" cy="55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836800" y="3717720"/>
            <a:ext cx="11336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637000" y="4079880"/>
            <a:ext cx="1884240" cy="55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2960280" y="3715920"/>
            <a:ext cx="1141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9640" y="3716280"/>
            <a:ext cx="1667160" cy="15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378080" y="3716280"/>
            <a:ext cx="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4506840"/>
            <a:ext cx="166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9640" y="3716280"/>
            <a:ext cx="166716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39640" y="3716280"/>
            <a:ext cx="166716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804800">
            <a:off x="4551120" y="3527280"/>
            <a:ext cx="1873080" cy="1643040"/>
          </a:xfrm>
          <a:prstGeom prst="hexagon">
            <a:avLst>
              <a:gd name="adj" fmla="val 28500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76760" y="3882960"/>
            <a:ext cx="1628640" cy="9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76760" y="3882960"/>
            <a:ext cx="1628640" cy="9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476680" y="3397320"/>
            <a:ext cx="28440" cy="18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76720" y="3645000"/>
            <a:ext cx="809640" cy="14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4676760" y="4340160"/>
            <a:ext cx="1628640" cy="4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076720" y="3644640"/>
            <a:ext cx="809640" cy="14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50000" y="3592440"/>
            <a:ext cx="1506600" cy="1486080"/>
          </a:xfrm>
          <a:custGeom>
            <a:avLst/>
            <a:gdLst>
              <a:gd name="textAreaLeft" fmla="*/ 274320 w 1506600"/>
              <a:gd name="textAreaRight" fmla="*/ 1232280 w 1506600"/>
              <a:gd name="textAreaTop" fmla="*/ 270720 h 1486080"/>
              <a:gd name="textAreaBottom" fmla="*/ 1215360 h 148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00" y="14436"/>
                </a:lnTo>
                <a:lnTo>
                  <a:pt x="3163" y="18437"/>
                </a:lnTo>
                <a:lnTo>
                  <a:pt x="7007" y="19735"/>
                </a:lnTo>
                <a:lnTo>
                  <a:pt x="10800" y="21600"/>
                </a:lnTo>
                <a:lnTo>
                  <a:pt x="14436" y="19800"/>
                </a:lnTo>
                <a:lnTo>
                  <a:pt x="18437" y="18437"/>
                </a:lnTo>
                <a:lnTo>
                  <a:pt x="19735" y="14593"/>
                </a:lnTo>
                <a:lnTo>
                  <a:pt x="21600" y="10800"/>
                </a:lnTo>
                <a:lnTo>
                  <a:pt x="19800" y="7164"/>
                </a:lnTo>
                <a:lnTo>
                  <a:pt x="18437" y="3163"/>
                </a:lnTo>
                <a:lnTo>
                  <a:pt x="14593" y="1865"/>
                </a:lnTo>
                <a:lnTo>
                  <a:pt x="10800" y="0"/>
                </a:lnTo>
                <a:lnTo>
                  <a:pt x="7164" y="1800"/>
                </a:lnTo>
                <a:lnTo>
                  <a:pt x="3163" y="3163"/>
                </a:lnTo>
                <a:lnTo>
                  <a:pt x="1865" y="700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02400" y="3592440"/>
            <a:ext cx="0" cy="1486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50000" y="4335480"/>
            <a:ext cx="150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969240" y="3811320"/>
            <a:ext cx="1066680" cy="102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69240" y="3811680"/>
            <a:ext cx="1066680" cy="102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73840" y="4097160"/>
            <a:ext cx="1266840" cy="4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873840" y="4097160"/>
            <a:ext cx="1266840" cy="4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236000" y="3715920"/>
            <a:ext cx="53316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36000" y="3716280"/>
            <a:ext cx="53316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76720" y="3645000"/>
            <a:ext cx="432000" cy="72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524720" y="3573000"/>
            <a:ext cx="0" cy="792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900"/>
                            </p:stCondLst>
                            <p:childTnLst>
                              <p:par>
                                <p:cTn id="4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64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740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79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8400"/>
                            </p:stCondLst>
                            <p:childTnLst>
                              <p:par>
                                <p:cTn id="5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200"/>
                            </p:stCondLst>
                            <p:childTnLst>
                              <p:par>
                                <p:cTn id="5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Ученица 8 класса </a:t>
            </a: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ОУ Факельской СОШ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Ходырева Анна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ДСТАВЛЯЕ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При создании данного проекта использована следующая литератур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1. Наглядная геометрия. 5-6 кл. И.Ф. Шарыгин, 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Л.Н. Ерганжиева... -М.: Дрофа, 1999. стр. 248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2. С математикой в путь. Н. Лэнгдон, Ч. Снейп: Перевод с английского - М. :Педагогика, 1987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3. Гончар В. Снежинки.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(Библ. Газеты «1 сентября» Математика) стр. 25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ЫРАЖАЮ БЛАГОДАРНОСТЬ ЗА ПОМОЩЬ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Преподавателю информатики 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Агафоновой Ольге Петровне за помощь в освоении компьютерной программы 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Microsoft Office PowerPoint 2003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Преподавателю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математики 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Ходыревой Ирине Александровне за подбор литературы и построение чертежей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3e3ff"/>
                </a:solidFill>
                <a:latin typeface="Arial"/>
              </a:rPr>
              <a:t>КОНЕЦ</a:t>
            </a:r>
            <a:br>
              <a:rPr sz="8000"/>
            </a:b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ССЛЕДОВАТЕЛЬСКАЯ РАБОТА 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СНЕЖИНКИ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52,51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6068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А вы видали тени от снежинок?</a:t>
            </a: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А вы знаете, как они танцуют</a:t>
            </a: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В лунном блеске голубом и чистом</a:t>
            </a:r>
            <a:br>
              <a:rPr sz="3600"/>
            </a:br>
            <a:r>
              <a:rPr b="0" i="1" lang="en-US" sz="3600" spc="-1" strike="noStrike">
                <a:solidFill>
                  <a:srgbClr val="e3e3ff"/>
                </a:solidFill>
                <a:latin typeface="Arial"/>
              </a:rPr>
              <a:t>Или просто в свете фонаря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Снежинка Мандельброта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красивая фигура, по форме напоминающая снежинку, получила название «Снежинка Мандельброта» по имени математика Бенуа Мандельб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3640" y="4092480"/>
            <a:ext cx="266364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нежинка Кох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ежинка, которую вы видите на рисунке, образована одной из самых известных фрактальных кривых и носит имя шведского математика Нильса Фабиана Хельге фон Ко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2592360" cy="25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Уилсон А. Бентли (1865-1931), удивительный фермер-самоучка из штата Вермонт (США), получил прозвище «Снежинка» (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Snowflake Man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). В течение сорока шести лет, он день за днем,  собирал уникальную коллекцию фотографий снежинок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3086280"/>
            <a:ext cx="44640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3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18440" cy="58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К концу жизни Бентли коллекция насчитывала более 5000 экземпляров. Что удивительно, ни одна форма снежинки не повторяется. 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До сих пор коллекцией Бентли пользуются ученые, художники и дизайнеры. </a:t>
            </a:r>
            <a:br>
              <a:rPr sz="2800"/>
            </a:b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В родном городе Бентли Джерико (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Jericho</a:t>
            </a: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) работает созданный заботливыми руками музей. Здесь хранятся оригинальные работы Уилсона Бентли, а также архив, который включает более 60 статей, в которых фотограф размышляет о форме и свойствах снежинок, рассказывает о своем опыте их фотографирования, что является и сейчас непростой задачей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2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На фотографиях мы видим настоящие снежинки. Все они отличаются по форме, но при этом все они (почти все без исключений) шестиугольные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65480" y="378612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183024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635880" y="251604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873440" cy="1725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020000" y="4869000"/>
            <a:ext cx="169704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15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15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15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8:14:09Z</dcterms:created>
  <dc:creator>qwre</dc:creator>
  <dc:description/>
  <dc:language>en-US</dc:language>
  <cp:lastModifiedBy>04</cp:lastModifiedBy>
  <dcterms:modified xsi:type="dcterms:W3CDTF">2008-12-12T09:18:20Z</dcterms:modified>
  <cp:revision>40</cp:revision>
  <dc:subject/>
  <dc:title>Слайд 1</dc:title>
</cp:coreProperties>
</file>